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6357-DFC5-4F53-85A3-297C20F34D8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ide: The type of the variables need not match, just the n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3F12-9B24-45CB-80E3-B4C908476CE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reasons unknown, the class Stack in the Java class library is implemented as a subclass of the cla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232-893E-40E7-8B6B-20D601C4677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 naughty child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un bambino birich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49E3-8327-405F-82D5-6C7AFC72DE7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D98-15B4-40C4-AF3E-B0C09A7C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5AE-60C4-48C2-9D4D-B91B68A0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D8867-69F3-4520-B6D4-5323FC4B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2E1C4-4982-4E32-B46B-1BBC77A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CB6D9-D145-4278-A8FB-54234870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E131E-367E-449F-9462-78233F8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98CBF-D865-4ACF-8291-048D390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9B11B-D3B4-4A5D-A26C-F1E312C3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5BB79-5B14-4FA9-AD04-40280C11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C0345-9DC5-4886-AD38-DA69C146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5FA7A-38CB-4892-A3EB-BFC1628D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CEF59-C26A-488C-9000-2D9DB188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A67-4580-4A30-B377-3D798AEA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92B78-3E36-440F-B5E1-91555A4E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5D916-BAC2-45B8-8977-71C3B8E8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153A5-C2D5-4BAF-B73C-A08087B3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F0B88-A203-4278-B049-6B4108BA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A89EF-A424-4081-8EFF-E4DEE39C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365FA-891B-4D9D-A538-0A4D7317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47AAC-0DEF-4877-84F9-4C93966A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35557-1265-4129-B369-FB8E6ECF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7BB66-480B-44C9-90D5-EBE76721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20536-24F8-44F4-9D85-6C6856A7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312-3666-454C-9AAD-D98752F9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A4ADC-ADB1-451A-A378-3D520722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55180F-73E8-44C8-B2F0-BA22B4FC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F0D431-24B7-4A03-B81F-1A4CE026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2CA79E-90C4-4605-AC9F-F9686CCA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487018-12D2-43BC-B4DE-3294253B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74B62F-692D-4077-AD54-91087FC9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05AE1B-6259-4D8F-A403-00657E03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62D644-4CAD-4747-85C4-0475A2B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86DDFA-779B-4404-8565-C40D475A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BD00B1-C3DB-4FE9-93E5-DE156A71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4005-503C-4A6B-BA80-5A6794A0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F7816A-DF50-417F-A3E8-0FEE7D96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113717-A1D3-4A56-8F94-1886D1E9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2B7705-9B4B-45F6-AEC4-68AD9E37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DECF-8BAC-4ACF-A32C-EBF632C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3751-BF15-4D79-AC5E-CDC678DC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FDB2-FA97-436B-B90B-55F76433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FCEA-DC80-436A-9943-8276A00C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05F0-028E-436F-90B8-47C6A9E5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C94E-4247-4108-88A4-5E0094EB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994-3FAF-4A54-B05C-3CAA33D3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0793-29D1-471B-BCC3-BF4FC120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CA55-28B6-4BD5-8EF7-6097EBB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5BEB-58A9-436C-9C9F-C9A4DECF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FCE7-85F8-47BE-9ECB-CD759527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47F3-B2E9-4F84-B15F-37C3976C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A4D7F-3A09-4A2F-B8C7-28FC69C15C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F7BC9-DF05-4906-91E3-0AE7D38510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F752D-42E5-40C8-8519-7839F22203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148C2-673E-458A-A395-B2CF1B35C2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2C6A8-F81B-4A08-8E8A-738EDAB997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6F1-9622-4BD5-8D77-883656C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8629C-DD14-4DF2-B612-9EEA30435D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5CCE3-EED1-4940-BD1D-6B529CDAD0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9F333-62AA-4F05-8EFD-7FAAAE5EA5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BB8BF-9624-42A4-86D5-3E3C948F04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22423-B0ED-40EB-A1C2-2C39433FD5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ACB61-5A12-4804-B850-09365122C4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E2D6A-D4D8-49C8-ADC8-916DBC2A7E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E9755-8004-48AE-9899-85768D19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19587-DFAF-45C2-820C-3B849D18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F714F-3949-4569-9ABE-10EEFD4C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384-3C33-4F13-A9E3-69509DF4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A91D9-23F3-479A-A15B-6EB40CF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9371E-5D2C-4D1A-917F-06C0BB6A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27542-50A6-49AC-8ED3-124EF482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B41D4-630E-46B7-85DF-9F878A0C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36490-A775-41E2-8206-290FAA4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C791F-B13B-4730-94A9-02EB5FF6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3543F-C6D7-40F6-A44F-B8D33438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9A043-DAFE-4595-9C4D-4ABF80DE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EE98D-8A9E-41DD-9F15-6D51ED6D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87594-6AEB-415D-AEFA-AE9B56BF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7DE-0E09-4833-BD8A-3336C515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8BCFD-2F17-4A46-8994-39AF7360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3888D-F5A4-47DA-85BA-CE80C555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1FBAC-DC82-4884-80CB-B0F8D929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0E44D-ADC2-4E69-B053-3C24B4D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0FA76-0958-488D-AC1D-5428B93E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67839-CAB3-454F-A87A-40F61C26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71B1C-C475-4F3D-9DBA-8A6E440B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FE740-709B-4584-B90F-4727BA9A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72085-FE37-40F9-BF38-34BECA0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F9844-54BA-488A-A8BD-F61D4123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C0F-5666-4936-8B9C-74C0AAC9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3FC42-7BEE-46E0-A339-2462259D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DE9118-79A6-4F8C-98F1-BEAE3BB542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606651-27A0-4CF1-9598-8676A2C54F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EABE0-AC7C-4706-8F65-7B093B84915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81E66-3ADD-4E8F-9A33-58D7F27F238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E31521-24F9-46F8-A52A-1E2C267A37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437ECA-1842-4AF6-8FA3-EE8C3DB4CF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13961-E09F-45AF-8243-5C293734A4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DA1963-12F5-4CF7-AE36-358859E02E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6417C2-D618-48F7-8EF8-615C8B5F7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5D1-014C-4C45-8643-EDCA9F5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E4F9DE-B461-4FAF-80FD-C2117A67AF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4256B-F390-4837-88EA-3CEE3847A8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3EDFDE-05A3-4829-896D-D490AA590B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D8C337-A028-4C3F-9A29-2BC5C5E9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ECAABD-53FC-4C0E-9921-A8168077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8E13B-084D-4BD7-BAF2-E20876BC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E6508C-DE4B-4EB2-BA19-35E185F7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404F5E-8A62-4CCE-A037-36009A2F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7074EF-C798-43DF-ABD6-9310B39D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B0E6F8-E089-47CC-AF61-BC6926FA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7EA-6C3A-4EC9-A795-E60525C2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9D2BDF-D912-441D-B196-9C6C441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BDD01C-7CC7-4F45-9ACE-4CBCFF61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ED8CAA-7946-462E-9C79-6EE25583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A3AD00-F852-4B75-9D12-87F1CB41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57BD61-5FCF-406E-9668-79DC20CC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077DC0-3596-481E-A911-771B422C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0B0761-6AC9-40D2-9E0E-59DBF823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2C6543-85A3-4F1C-A09F-F737E0AC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EAED3D-7F54-4F12-98E6-50356496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166E38-638F-4874-86C3-ED1B42B2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B95-98C8-4D10-8F19-7C0576E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FF079A-1458-47DD-BD6E-7B80F56D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777082-8C59-44BE-93BF-51991F84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E2748A-40E0-4524-9DE4-ED7D4F5D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9C152E-8769-4A7E-A066-641A2F95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CE53FF-8F51-4ADA-A2BD-960EFC52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D7B8BC-F097-4AF9-AD24-3EEAAC2C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0E4BC7-257F-4D8F-B337-2465F3FA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5BFB0-F295-4149-B801-30C9DC80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74D80-1059-4F89-9E98-99AE3E0C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5BAE0-3382-45BA-9C74-596B6463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16EA-0C7E-40A7-A11E-D0647ABE1A8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Cuzc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0BBA-B81B-406C-958A-7E21611B3851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Cuzc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C1FC-82F4-4BF7-8D8C-D08D7A9E2191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Rettangolo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Rettangolo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Rettangolo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55BC-68DB-48ED-9C13-193E808DA84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7"/>
          </p:nvPr>
        </p:nvSpPr>
        <p:spPr>
          <a:xfrm>
            <a:off x="114264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1236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3F73-289A-4067-9587-DEDEE5D2189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tangolo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ttangolo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8954-CA24-4D64-B6AF-879275A1DC3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Triangolo isosce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5379-6525-47A7-A86A-77338BC48EC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5"/>
          </p:nvPr>
        </p:nvSpPr>
        <p:spPr>
          <a:xfrm>
            <a:off x="1295280" y="6356520"/>
            <a:ext cx="739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1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D370-B4A8-4B44-ADAB-871C4E9159E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Connettore 1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Triangolo isosce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C9A-808B-4681-B870-741EBD0DA8B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Rettangolo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6A4B-8A2F-448A-A5D1-4CD7BDD5539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Connettore 1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4AC2-BADB-4890-AE8E-92A6F531172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Delegation vs inheritance</a:t>
            </a:r>
            <a:br>
              <a:rPr sz="3200"/>
            </a:b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0" name="Segnaposto piè di pagina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dde9e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de9ec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dde9ec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Segnaposto numero diapositiva 4"/>
          <p:cNvSpPr/>
          <p:nvPr/>
        </p:nvSpPr>
        <p:spPr>
          <a:xfrm>
            <a:off x="1069920" y="6354720"/>
            <a:ext cx="152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4AE0-94D7-4FEF-BF23-188923D394FD}" type="slidenum">
              <a:rPr b="1" lang="en-US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chanic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0880" y="1066320"/>
            <a:ext cx="838224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a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field in the subclass that refers to an instance of the superclass. Initialize it to th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nge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each method defined in the subclass to use the delegate fiel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Compile &amp;test after changing each metho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43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You won’t be able to replace any methods that invoke a method on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super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that is defined on the subclass, or they may get into an infinite recurse. These methods can be replaced only after you have broken the inheritanc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Remove the subclass declaratio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replace the delegate assignment with an assignment to a new o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each superclass method used by a client, add a simple delegating metho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4360" indent="-234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ile and t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1C85-491B-4192-A97A-2A6C3E8575DE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terface inheritance vs class inheri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Class inheritance: implementation reu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dangerous when overiding to nothing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See the non flying (rubber) duck in the head first book,  p. 4-5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nterface Inheritance:  subtyp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Flyable and Quackable duck, subtypes of Duck, with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fly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 and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quack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 functionalities, resp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But then no code reuse for those funcionaliti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And… there might be different fly behaviours even among the ducks that do fly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31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2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A641-653C-4CDD-BBD3-3D75047530CD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legation (When not using inheritance) [Mark Grand98]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s a common way of extending and reusing the functionality of a class. However, inheritance is inappropriate for many situa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heritance is useful for capturing is-a-kind-of relationships which are rather static in nature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s-a-role-played-by relationships are awkward to model by inheritance, where delegation could be a better choice. Using instances of a class to play multiple role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6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2CA3-91FA-4972-AB8F-492AA46E4653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vs delegation: changing ro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use inheritance where roles interchang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example, an airline reservation system may include such roles as passenger, ticket selling agent and flight crew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class called Person may use subclasses corresponding to each of these role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39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0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5312-27A9-4364-BE03-57ABB3883261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87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(cont’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problem is that the same person can fill more than one of these role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erson who is normally part of a flight crew can also be a passenger…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s way, the number of subclasses would increase exponential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5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D3F8-8E96-4ECD-9A42-D3837CC8A8C6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164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(cont’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f person A, CrewMember,  becomes now also a Passenger,  a new object Passenger is created, referring 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0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1955-96A5-46A0-A79B-DAE27C98AC9B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8486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(cont’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4120" y="491184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ut then problems with using the specific methods, which were unforese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D1F3-1D7F-4ABF-A460-074092F9F3C5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rcRect l="30003" t="46001" r="29377" b="26003"/>
          <a:stretch/>
        </p:blipFill>
        <p:spPr>
          <a:xfrm>
            <a:off x="412920" y="1066680"/>
            <a:ext cx="83055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egnaposto numero diapositiva 6"/>
          <p:cNvSpPr/>
          <p:nvPr/>
        </p:nvSpPr>
        <p:spPr>
          <a:xfrm>
            <a:off x="68580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C2A-5167-4FC3-B00E-A678333FFC89}" type="slidenum">
              <a:rPr b="1" lang="it-IT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heritance vs delegation: killing ex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If you want to let the Window client change the implementation of area, you need define different specializations, and rebuild the whole object to perform the chang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Picture 7" descr="InherVsComp1"/>
          <p:cNvPicPr/>
          <p:nvPr/>
        </p:nvPicPr>
        <p:blipFill>
          <a:blip r:embed="rId1"/>
          <a:stretch/>
        </p:blipFill>
        <p:spPr>
          <a:xfrm>
            <a:off x="4859280" y="1295280"/>
            <a:ext cx="3816360" cy="3745080"/>
          </a:xfrm>
          <a:prstGeom prst="rect">
            <a:avLst/>
          </a:prstGeom>
          <a:ln w="0">
            <a:noFill/>
          </a:ln>
        </p:spPr>
      </p:pic>
      <p:sp>
        <p:nvSpPr>
          <p:cNvPr id="561" name="Segnaposto piè di pagina 3"/>
          <p:cNvSpPr/>
          <p:nvPr/>
        </p:nvSpPr>
        <p:spPr>
          <a:xfrm>
            <a:off x="1981080" y="635652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57200" y="53341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 you can't change the implementation inherited from super classes at runtime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egnaposto numero diapositiva 6"/>
          <p:cNvSpPr/>
          <p:nvPr/>
        </p:nvSpPr>
        <p:spPr>
          <a:xfrm>
            <a:off x="6858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073C-DC7B-4948-A8ED-D82189210E9A}" type="slidenum">
              <a:rPr b="1" lang="it-IT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heritance vs delegation: killing ex. </a:t>
            </a:r>
            <a:r>
              <a:rPr b="0" lang="it-IT" sz="1600" spc="-1" strike="noStrike">
                <a:solidFill>
                  <a:srgbClr val="464653"/>
                </a:solidFill>
                <a:latin typeface="Bookman Old Style"/>
              </a:rPr>
              <a:t>(cont’d)</a:t>
            </a: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522900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With delegation, you only need to change the object relative to the delegated operation you want to 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6" name="Picture 7" descr="InherVsComp2"/>
          <p:cNvPicPr/>
          <p:nvPr/>
        </p:nvPicPr>
        <p:blipFill>
          <a:blip r:embed="rId1"/>
          <a:stretch/>
        </p:blipFill>
        <p:spPr>
          <a:xfrm>
            <a:off x="395280" y="1484280"/>
            <a:ext cx="7921800" cy="343224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8"/>
          <p:cNvSpPr/>
          <p:nvPr/>
        </p:nvSpPr>
        <p:spPr>
          <a:xfrm>
            <a:off x="4325040" y="17733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rectangl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8" name="Segnaposto piè di pagina 3"/>
          <p:cNvSpPr/>
          <p:nvPr/>
        </p:nvSpPr>
        <p:spPr>
          <a:xfrm>
            <a:off x="1905120" y="6400800"/>
            <a:ext cx="708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nheritance vs delegation:langua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Java or C#, an object cannot change its type once it has been instantia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, if your object need to appear as a different object or behave differently depending on an object state or conditions, then use Composi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fer to State and Strategy Design Patter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f the object need to be of the same type, then use Inheritance or implement interfa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1B08-312A-487B-8D7A-5E56EC3125A1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legation vs inheritance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[Mark Grand98]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efines a new class, which use the interface of a parent class while adding extra, more problem-specific method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legatio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s a way of reusing and extending the behavior of a class by writing a new class that incorporates the functionality of the original class by using an instance of the original class and calling its method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.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sue in OO is if a class A should inherit from B or A should use B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393F-D94B-484C-968F-433C3234C84F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vs delegation: hi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use inheritance if you end up in a situation where a class is trying to hide a method or variable inherited from a super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you define a field in a subclass that has the same name as an accessible field in its superclass, the subclass's field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hide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the superclass's version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if a superclass declares a public field, subclasses will either inherit or hide it. (You can't override a field.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a subclass hides a field, the superclass's version is still part of the subclass's object data; however methods in the subclass can access the superclass's version only by using the super keyword, as in super.fieldName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6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83E9-88A8-4AC5-A5EA-F653AEF8E85C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vs delegation: utility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use inheritance of a utility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you're not in control of the parent class and it may change scope later (inheriting java.util.Vector is a very, very bad idea since sun may later declare methods deprecated)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's always easier to replace changing a class you just use – than one you inherit from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esides, inheritance exposes a subclass to details of its parent's class implementation, that's why it's often said that inheritance breaks encapsulation (in a sense that you really need to focus on interfaces only not implementation, so reusing by sub classing is not always preferred)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79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0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F3DB-878A-423B-93C6-916EA049828C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ces where not to use inheritance (but rather delegation)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use inheritance from a class, which is written very specifically to a narrow problem - because that will make it more difficult to inherit from another class late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ient classes that use the problem domain class may be written in a way that assumes the problem domain class is a subclass of the utility clas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the implementation of the problem domain changes in a way that results in its having a different superclass, those client classes that rely on its having its original superclass will break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6C2F-10D6-4CF1-8D4B-5B8EFDE6CF14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otential Drawbacks of Deleg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may be some minor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erformance penalt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invoking an operation across object boundaries as opposed to using an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nherited metho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legation can’t be used with partially </a:t>
            </a:r>
            <a:r>
              <a:rPr b="0" lang="it-IT" sz="2600" spc="-1" strike="noStrike">
                <a:solidFill>
                  <a:srgbClr val="ff0000"/>
                </a:solidFill>
                <a:latin typeface="Gill Sans MT"/>
              </a:rPr>
              <a:t>abstract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(uninstantiable) cla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legation does not impos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ny disciplined </a:t>
            </a:r>
            <a:r>
              <a:rPr b="0" lang="it-IT" sz="2600" spc="-1" strike="noStrike">
                <a:solidFill>
                  <a:srgbClr val="ff0000"/>
                </a:solidFill>
                <a:latin typeface="Gill Sans MT"/>
              </a:rPr>
              <a:t>structure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on the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8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571B-ACC6-4909-8F66-A7BCA662A60C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s a wonderful thing, but sometimes it isn’t what you wan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ften you start inheriting from a class but then find that many of the </a:t>
            </a:r>
            <a:r>
              <a:rPr b="0" lang="en-US" sz="2300" spc="-1" strike="noStrike">
                <a:solidFill>
                  <a:srgbClr val="0070c0"/>
                </a:solidFill>
                <a:latin typeface="Gill Sans MT"/>
              </a:rPr>
              <a:t>superclass operations aren’t really true of the subclass.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 this case you have an interface that’s not a true reflection of what the class doe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r you may find that you are </a:t>
            </a:r>
            <a:r>
              <a:rPr b="0" lang="en-US" sz="2300" spc="-1" strike="noStrike">
                <a:solidFill>
                  <a:srgbClr val="0070c0"/>
                </a:solidFill>
                <a:latin typeface="Gill Sans MT"/>
              </a:rPr>
              <a:t>inheriting a whole load of data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at is not appropriate for the subclass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r you may find that there are </a:t>
            </a:r>
            <a:r>
              <a:rPr b="0" lang="en-US" sz="2300" spc="-1" strike="noStrike">
                <a:solidFill>
                  <a:srgbClr val="0070c0"/>
                </a:solidFill>
                <a:latin typeface="Gill Sans MT"/>
              </a:rPr>
              <a:t>protected superclass methods that don’t make much sense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ith the subclas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CA0C-E16C-4E3E-AF61-E4FEA137A78E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ivation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live with the situation and use convention to say that although it is a subclass, it’s using only part of the superclass func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that results in code that says one thing when your intention is something else—a confusion you should remov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Gill Sans MT"/>
              </a:rPr>
              <a:t>By using deleg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nstead, you make it clear that you are making only partial use of the delegated class.  You control which aspects of the interface to take and which to igno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ill Sans MT"/>
              </a:rPr>
              <a:t>The cos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extra delegating methods that are boring to write but are too simple to go wro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DFCA-B7D2-44E0-8ED1-0CF01C4AFCE8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place Inheritance with Deleg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a field for the superclass, adjust methods to delegate to the superclass, and remove the subclass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3E42-F35F-43BC-B614-836E1775E5DB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8" name="Picture 8" descr=""/>
          <p:cNvPicPr/>
          <p:nvPr/>
        </p:nvPicPr>
        <p:blipFill>
          <a:blip r:embed="rId1"/>
          <a:srcRect l="16875" t="31001" r="18124" b="25001"/>
          <a:stretch/>
        </p:blipFill>
        <p:spPr>
          <a:xfrm>
            <a:off x="609480" y="2362320"/>
            <a:ext cx="7925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e of the classic examples of inappropriate inheritance is making a stack a subclass of vector.  Java does this in its utilities (naughty boys!), but in this case I use a simplified form of stac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MyStack extends Vector 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56360" indent="-210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void push(Object element) {insertElementAt(element,0); }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56360" indent="-210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blic Object pop() { Object result = firstElement();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moveElementAt(0); return result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}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oking at the users of the class, I realize that clients do only four things with stack: push, pop, size, and isEmpty. The latter two are inherited from Vect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2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B14B-D9BA-4BB1-B280-6BF14F40472D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begin the delegation by creating a field for the delegated vector. I link this field to this so that I can mix delegation and inheritance while I carry out the refactoring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168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te Vector _vector = this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w I start replacing methods to get them to use the delegation. I begin with push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168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ublic void push(Object element) {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_vector.insertElementAt(element,0); }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0120" indent="-240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can compile and test here, and everything will still wor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6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9711-DC1F-4511-BEAC-F986CF8C0CD9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w pop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public Object pop() { 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result = _vector.firstElement()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_vector.removeElementAt(0)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urn result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8C6A-BE8A-4181-BE51-2092CF389487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(continued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I’ve completed these subclass methods, I need to break the link to the superclas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lass MyStack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vate Vector _vector = new Vector()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then add simple delegating methods for superclass methods used by cli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ublic int size() { return _vector.size(); }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ublic boolean isEmpty() { return _vector.isEmpty(); }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w I can compile and test. If I forgot to add a delegating method, the compilation will tell 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FE98-FE2F-46B2-96E0-B026E9D237A8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a Semini</cp:lastModifiedBy>
  <cp:lastPrinted>2016-09-22T10:48:42Z</cp:lastPrinted>
  <dcterms:modified xsi:type="dcterms:W3CDTF">2019-03-29T10:37:34Z</dcterms:modified>
  <cp:revision>4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